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17E-9232-48B4-B427-023BFD4E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927-DEA6-42B7-A9E0-F780D6A1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4FD-72A6-44FD-B158-17F25EFF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957D-5DED-43B3-ABE2-C24BB8CF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61C-226C-4164-826F-63F22777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8B76-6FA2-43E2-AE4A-60F64A1F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4E9-D342-45DD-846C-5867CF4F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B812-7E59-43D3-8967-095149EA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111E-F956-4C54-ADE6-7D20CB87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96AA-D273-47FD-A5BB-36B9362C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FFC2-4B1C-41C6-9BAC-3F5AD007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078A-2692-4CCD-9FC1-BEED9529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E49C-315E-4C58-9376-118C95E75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zve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štaj o upisu kandidata na Filozofski fakultet školske 2012/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4100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b3b3b3"/>
                </a:solidFill>
                <a:latin typeface="Arial"/>
              </a:rPr>
              <a:t>Ognjen Radonji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b3b3b3"/>
                </a:solidFill>
                <a:latin typeface="Arial"/>
              </a:rPr>
              <a:t>Koordinator up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0" y="762120"/>
          <a:ext cx="914400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0" y="838080"/>
          <a:ext cx="914400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0" y="533520"/>
          <a:ext cx="9144000" cy="55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0" y="533520"/>
          <a:ext cx="914400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0" y="609480"/>
          <a:ext cx="914400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144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0" y="380880"/>
          <a:ext cx="9144000" cy="541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Sekundarni izbor na nivou Fakult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odovi poslednjeg primljenog kandi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153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ologija (bodov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nologija i antropologija (bodov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543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heologija (bodov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torija umetnosti (bodov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077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ozofija (bodov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229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i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čne nauke (bodov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truktura ispunjenosti 170 mesta na bazi kvote 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roj slobodnih mesta i broj prijavljenih kandidata po odeljenj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4"/>
          <p:cNvGraphicFramePr/>
          <p:nvPr/>
        </p:nvGraphicFramePr>
        <p:xfrm>
          <a:off x="0" y="762120"/>
          <a:ext cx="9144000" cy="51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Procenat kandidata koji su se izjasnili za alternativni izbor po odeljenj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6"/>
          <p:cNvGraphicFramePr/>
          <p:nvPr/>
        </p:nvGraphicFramePr>
        <p:xfrm>
          <a:off x="0" y="838080"/>
          <a:ext cx="91440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5"/>
          <p:cNvGraphicFramePr/>
          <p:nvPr/>
        </p:nvGraphicFramePr>
        <p:xfrm>
          <a:off x="0" y="762120"/>
          <a:ext cx="914400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0" y="762120"/>
          <a:ext cx="91440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0" y="838080"/>
          <a:ext cx="914400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9:50:04Z</dcterms:created>
  <dc:creator>Korisnik</dc:creator>
  <dc:description/>
  <dc:language>en-US</dc:language>
  <cp:lastModifiedBy>andja</cp:lastModifiedBy>
  <dcterms:modified xsi:type="dcterms:W3CDTF">2012-09-25T13:41:53Z</dcterms:modified>
  <cp:revision>16</cp:revision>
  <dc:subject/>
  <dc:title>Izveštaj o upisu kandidata na Filozofski fakultet školske 2012/13</dc:title>
</cp:coreProperties>
</file>