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337-F494-4FAE-8E78-77D3EBB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137-7184-4A4B-9F0D-DCC14AE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BF5-0FCA-4681-9206-A9A19185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BF0-06CE-4032-8E48-17DB4CC4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F65-ADF5-4A38-817D-CE6F8D6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F57-EE46-4940-8781-1EAF8607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250-519C-4161-9862-749619DF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A20-637E-4A68-95D2-4544AA3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F5A-4058-4D96-B1E0-3FB1CF6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EDF-57E8-46F0-9430-DB2B2A6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847-D50E-4B29-A97D-82F10DA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0E0-8207-44C1-A66B-39F14C9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859-DEE6-472E-A80A-12DB6DB1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ve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taj o upisu kandidata na Filozofski fakultet školske 2012/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Ognjen Radonj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Koordinator u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0" y="8380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0" y="533520"/>
          <a:ext cx="914400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0" y="533520"/>
          <a:ext cx="91440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0" y="609480"/>
          <a:ext cx="91440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0" y="380880"/>
          <a:ext cx="91440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Sekundarni izbor na nivou Fakult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dovi poslednjeg primljenog kandi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nologija i antropologija (bodo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he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orija umetnosti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ozof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čne nauke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uktura ispunjenosti 170 mesta na bazi kvote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oj slobodnih mesta i broj prijavljenih kandidata po odelje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0" y="762120"/>
          <a:ext cx="91440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cenat kandidata koji su se izjasnili za alternativni izbor po odelje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0" y="83808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5"/>
          <p:cNvGraphicFramePr/>
          <p:nvPr/>
        </p:nvGraphicFramePr>
        <p:xfrm>
          <a:off x="0" y="762120"/>
          <a:ext cx="9144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0" y="76212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0" y="838080"/>
          <a:ext cx="91440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0:04Z</dcterms:created>
  <dc:creator>Korisnik</dc:creator>
  <dc:description/>
  <dc:language>en-US</dc:language>
  <cp:lastModifiedBy>andja</cp:lastModifiedBy>
  <dcterms:modified xsi:type="dcterms:W3CDTF">2012-09-25T13:41:53Z</dcterms:modified>
  <cp:revision>16</cp:revision>
  <dc:subject/>
  <dc:title>Izveštaj o upisu kandidata na Filozofski fakultet školske 2012/13</dc:title>
</cp:coreProperties>
</file>